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77D-356A-4A45-B530-11F88AD6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B37-990F-4D64-B8EA-125ED6D1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279-3B1F-40DD-84FE-2230B313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2C9-EA6A-4046-A1BE-30CEF60C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1509-2D93-4F98-8AC2-F55AC7B5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4D8-1E49-4C8C-9319-49FAB598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233D-7D08-4F49-B7E2-945778C2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4D0F-8425-4188-8500-243349DD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93CB-3EAC-4B8B-B6A0-A36D6EC8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18F2-E22F-4664-B27D-B1AB4557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881D-C824-4591-BED1-2E33A5E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794-0917-42C1-8DAD-34C6B4D9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1996-958C-4228-8F59-E059E77E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B792-E1D3-477F-841F-0CC7A532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1DE4-7ED0-485C-8671-4E2FD2E9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D6F7-F72A-400F-8B12-991D8847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7462-D6DE-4C3C-A32D-B6156794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497-2514-46B2-877D-1C5BE82C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BF6-D3EC-4D9F-B5B6-06E84A3A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53F-642F-4B24-B5D7-C84F0257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7AE-FCDE-4363-B808-44FDB18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CDC-7003-4456-8851-AC937778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5C4-AD8E-4B24-8406-BD088C7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583-21CF-4445-8DCB-325FF98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026A-25C1-4083-A4AB-9A7263E364A3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A17F-827D-4075-8F83-AC1252580CB2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771640" y="1341360"/>
            <a:ext cx="3295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 globalizzaz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87640" y="3068640"/>
            <a:ext cx="28242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979640" y="2781360"/>
            <a:ext cx="2592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834000">
            <a:off x="178920" y="1341360"/>
            <a:ext cx="2303640" cy="1584360"/>
          </a:xfrm>
          <a:prstGeom prst="rightArrow">
            <a:avLst>
              <a:gd name="adj1" fmla="val 50000"/>
              <a:gd name="adj2" fmla="val 3635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glior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zzi 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sp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21018600">
            <a:off x="178920" y="3284280"/>
            <a:ext cx="2159280" cy="1657080"/>
          </a:xfrm>
          <a:prstGeom prst="rightArrow">
            <a:avLst>
              <a:gd name="adj1" fmla="val 50000"/>
              <a:gd name="adj2" fmla="val 32577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glior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zzi 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un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5661000"/>
            <a:ext cx="2232000" cy="9367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bera circol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24360" y="5516640"/>
            <a:ext cx="2592720" cy="7207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bera circol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r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11640" y="476280"/>
            <a:ext cx="2160720" cy="57636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du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93080" y="1125360"/>
            <a:ext cx="2050920" cy="7909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li di vita pi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340000" y="3860640"/>
            <a:ext cx="936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924360" y="1267920"/>
            <a:ext cx="107928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500720" y="2133720"/>
            <a:ext cx="223200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3645000"/>
            <a:ext cx="1584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4T09:33:09Z</dcterms:created>
  <dc:creator>PC01</dc:creator>
  <dc:description/>
  <dc:language>en-US</dc:language>
  <cp:lastModifiedBy>studente</cp:lastModifiedBy>
  <dcterms:modified xsi:type="dcterms:W3CDTF">2017-01-09T10:03:20Z</dcterms:modified>
  <cp:revision>8</cp:revision>
  <dc:subject/>
  <dc:title>Diapositiva 1</dc:title>
</cp:coreProperties>
</file>